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1"/>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2"/>
          </p:nvPr>
        </p:nvSpPr>
        <p:spPr>
          <a:xfrm>
            <a:off x="0" y="8829720"/>
            <a:ext cx="30384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3"/>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FD93-1197-49E7-8E3C-48FB8653EF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81160" y="696960"/>
            <a:ext cx="4648320" cy="3486240"/>
          </a:xfrm>
          <a:prstGeom prst="rect">
            <a:avLst/>
          </a:prstGeom>
          <a:ln w="0">
            <a:noFill/>
          </a:ln>
        </p:spPr>
      </p:sp>
      <p:sp>
        <p:nvSpPr>
          <p:cNvPr id="7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tewardship</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mbers of the NDSA are committed to managing digital content for current and long-term use. The members of the NDSA are actively committed to ensuring sustained access to the digital content that comprises our national history and empowers us as leaders in the global knowledge economy. Individually, these organizations support the management of digital resources; as an Alliance, we commit to protecting our nation's cultural, scientific, scholarly, and business heritage.</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llaboration</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llaborative work is the centering value of the Alliance, it is a value shared by all members and a priority in work with all organizations and associations. Approaching digital stewardship collaboratively allows the NDSA to coordinate effort, avoid duplicate work, build a community of practice, develop new preservation strategies, flexibly respond to a changing economic landscape, and build relationships to increase capacity to manage content beyond institutional boundaries.</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clusivenes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NDSA is a collaborative effort to preserve a distributed national digital collection for the benefit of current and future generations. We value the range of experience, the potential for innovation, and the fault-tolerance that heterogeneity brings. We believe the preservation of digital information is a pervasive challenge and that engaging across different communities strengthens the nation’s digital preservation practices and increases the likelihood of preserving data now and into the future.</a:t>
            </a:r>
            <a:br>
              <a:rPr sz="1000"/>
            </a:br>
            <a:br>
              <a:rPr sz="1000"/>
            </a:b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change</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embers of the Alliance encourage the open exchange of ideas, services, and software. This leverages the commitments of each member to increase the capacity of the entire stewardship network. In this way the act of participation and engagement result in innovations and benefits that can be shared by all.</a:t>
            </a:r>
            <a:br>
              <a:rPr sz="1000"/>
            </a:b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81160" y="696960"/>
            <a:ext cx="4648320" cy="3486240"/>
          </a:xfrm>
          <a:prstGeom prst="rect">
            <a:avLst/>
          </a:prstGeom>
          <a:ln w="0">
            <a:noFill/>
          </a:ln>
        </p:spPr>
      </p:sp>
      <p:sp>
        <p:nvSpPr>
          <p:cNvPr id="7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embers (as of Nov. 7, 2011): </a:t>
            </a:r>
            <a:endParaRPr b="0" lang="en-US" sz="8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ropolitan New York Library Council </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 Public Library </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Libris Group </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rgetown University Law Librar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shoff Group</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stor</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burn University Librari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MS/Chac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ard of Trustees of the University of Illinoi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fornia Digital Librar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fornia State Librar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holic University of America School of Library and Information Scienc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er for History and New Media, George Mason Universit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er for International Earth Science Information Network (CIESI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er for Research Librari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umbia University Libraries / Information Servic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nell University Librar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oration of the President of The Church of Jesus Christ of Latter-day Saint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cil of State Archivist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cil on Library and Information Resources: Digital Library Federatio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sion of Libraries and Information Services, Florida Department of Stat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Preservation Alliance for the Social Scienc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aSpac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opia Institut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Z Photo Sca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ory University Librar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Library and Information Center Committee (FLICC)</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rida Center for Library Automatio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gley Muesum and Librar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vard Universit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waii State Archiv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University Libraries </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aho Commission for Librari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aho State Archives, A Division of the Idaho State Historical Societ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Archiv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university Consortium for Political and Social Research</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Institut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 Hopkins University, The Sheridan Librari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Department for Libraries and Archiv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al Information Preservation Allianc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 Alamos National Laboratory Research Librar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e State Archiv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ademy of Motion Picture Arts and Scienc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aska Division of Libraries Archives, &amp; Museum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Inc.</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yland State Archiv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ive Media Partner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ociety of Media Photographer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higan State University Librari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zona State Library, Archives and Public Record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nesota Historical Societ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nnesota Office of the Revisor of Statut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anta Department of Administration/State Information Technology Services Divisio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nsell Stuido</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Archives and Records Administratio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Endowment of the Humaniti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Conference of State Legislatur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Technical Information Servic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Library of Medicin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braska State Historical Societ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vada State Library and Archiv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 Universit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Carolina Department of Cultural Resourc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Carolina State University Librari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LC</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ice of Scientific and Technical Information of the Department of Energ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Department of Librari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Dominion University, Department of Computer Scienc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egon State Librar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rtico</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Broadcasting Servic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izom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per Center for Public Opinion Research</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LA</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sonian Institutio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Department of Archives and Histor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ssella</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ford Universit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son Reuter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ed States Holocaust Memorial Museum</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Government Printing Offic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California, San Diego</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Minnesota Librarie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Maryland</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Michiga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North Carolina at Chapel Hill</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North Texas</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Southern California</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Tennesse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versity of Wisconsin-Madiso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ah Automated Geographic Reference Center</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ah Division of Archives and Records Service</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mont State Archives and Records Administratio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inia Polytechnic Institute and State Universit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GBH Educational Foundatio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consin Department of Administration</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sconsin Historical Society</a:t>
            </a: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NET.ORG</a:t>
            </a: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0" name="AutoShape 7"/>
          <p:cNvSpPr/>
          <p:nvPr/>
        </p:nvSpPr>
        <p:spPr>
          <a:xfrm>
            <a:off x="0" y="6095880"/>
            <a:ext cx="9144000" cy="457200"/>
          </a:xfrm>
          <a:prstGeom prst="rightArrow">
            <a:avLst>
              <a:gd name="adj1" fmla="val 50000"/>
              <a:gd name="adj2" fmla="val 41296"/>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900" spc="-1" strike="noStrike">
              <a:solidFill>
                <a:srgbClr val="000000"/>
              </a:solidFill>
              <a:latin typeface="Arial"/>
            </a:endParaRPr>
          </a:p>
        </p:txBody>
      </p:sp>
      <p:sp>
        <p:nvSpPr>
          <p:cNvPr id="1" name=""/>
          <p:cNvSpPr/>
          <p:nvPr/>
        </p:nvSpPr>
        <p:spPr>
          <a:xfrm>
            <a:off x="9144000" y="6218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2" name=""/>
          <p:cNvSpPr/>
          <p:nvPr/>
        </p:nvSpPr>
        <p:spPr>
          <a:xfrm>
            <a:off x="369720" y="347760"/>
            <a:ext cx="3602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3" name="" descr=""/>
          <p:cNvPicPr/>
          <p:nvPr/>
        </p:nvPicPr>
        <p:blipFill>
          <a:blip r:embed="rId2"/>
          <a:stretch/>
        </p:blipFill>
        <p:spPr>
          <a:xfrm>
            <a:off x="2371680" y="157320"/>
            <a:ext cx="4486320" cy="102996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49" name=""/>
          <p:cNvSpPr/>
          <p:nvPr/>
        </p:nvSpPr>
        <p:spPr>
          <a:xfrm>
            <a:off x="403200" y="1641600"/>
            <a:ext cx="8388360" cy="451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Garamond Pro Bold"/>
              </a:rPr>
              <a:t>A Shared Commitment to </a:t>
            </a:r>
            <a:br>
              <a:rPr sz="4400"/>
            </a:br>
            <a:r>
              <a:rPr b="0" lang="en-US" sz="4400" spc="-1" strike="noStrike">
                <a:solidFill>
                  <a:srgbClr val="000000"/>
                </a:solidFill>
                <a:latin typeface="Adobe Garamond Pro Bold"/>
              </a:rPr>
              <a:t>Digital Preservation and Access</a:t>
            </a:r>
            <a:r>
              <a:rPr b="0" lang="en-US" sz="4400" spc="-1" strike="noStrike">
                <a:solidFill>
                  <a:srgbClr val="000000"/>
                </a:solidFill>
                <a:latin typeface="Arial"/>
              </a:rPr>
              <a:t> </a:t>
            </a:r>
            <a:endParaRPr b="0" lang="en-US" sz="4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6" name=""/>
          <p:cNvSpPr/>
          <p:nvPr/>
        </p:nvSpPr>
        <p:spPr>
          <a:xfrm>
            <a:off x="858960" y="1293840"/>
            <a:ext cx="6865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dobe Garamond Pro Bold"/>
              </a:rPr>
              <a:t>Working Groups</a:t>
            </a:r>
            <a:endParaRPr b="0" lang="en-US" sz="4000" spc="-1" strike="noStrike">
              <a:solidFill>
                <a:srgbClr val="000000"/>
              </a:solidFill>
              <a:latin typeface="Arial"/>
            </a:endParaRPr>
          </a:p>
        </p:txBody>
      </p:sp>
      <p:sp>
        <p:nvSpPr>
          <p:cNvPr id="67" name=""/>
          <p:cNvSpPr/>
          <p:nvPr/>
        </p:nvSpPr>
        <p:spPr>
          <a:xfrm>
            <a:off x="379440" y="1830240"/>
            <a:ext cx="8521560" cy="411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rea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utreach Working Group of the National Digital Stewardship Alliance will focus on building relationships with stakeholder communities and preparing and sharing digital preservation information resources. This includes: Identifying and assessing tools the NDSA community needs for communication; Identifying and promoting key digital preservation information resources; Defining opportunities for outreach within the NDSA and to the community beyo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pe of Work: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tilizing social media tools to spread the messag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Awareness Campaig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tner Recruitment</a:t>
            </a:r>
            <a:endParaRPr b="0" lang="en-US" sz="20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8" name=""/>
          <p:cNvSpPr/>
          <p:nvPr/>
        </p:nvSpPr>
        <p:spPr>
          <a:xfrm>
            <a:off x="858960" y="1336680"/>
            <a:ext cx="6865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dobe Garamond Pro Bold"/>
              </a:rPr>
              <a:t>Working Groups</a:t>
            </a:r>
            <a:endParaRPr b="0" lang="en-US" sz="4000" spc="-1" strike="noStrike">
              <a:solidFill>
                <a:srgbClr val="000000"/>
              </a:solidFill>
              <a:latin typeface="Arial"/>
            </a:endParaRPr>
          </a:p>
        </p:txBody>
      </p:sp>
      <p:sp>
        <p:nvSpPr>
          <p:cNvPr id="69" name=""/>
          <p:cNvSpPr/>
          <p:nvPr/>
        </p:nvSpPr>
        <p:spPr>
          <a:xfrm>
            <a:off x="379440" y="2224080"/>
            <a:ext cx="8521560" cy="2899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 and Practic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s and Practices Working Group works to facilitate a community-wide understanding of the role of standards in digital preservation and how to use them effectively to ensure durable coll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pe of Wor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rvey and document the digital preservation standards landscap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70" name=""/>
          <p:cNvSpPr/>
          <p:nvPr/>
        </p:nvSpPr>
        <p:spPr>
          <a:xfrm>
            <a:off x="291960" y="2298240"/>
            <a:ext cx="8521920" cy="2775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0" name=""/>
          <p:cNvSpPr/>
          <p:nvPr/>
        </p:nvSpPr>
        <p:spPr>
          <a:xfrm>
            <a:off x="792000" y="1890360"/>
            <a:ext cx="7782120" cy="381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outgrowth of the National Digital Information Infrastructure and Preservation Program (NDIIP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collaborative effort among government agencies, educational institutions, non-profit organizations, and business entities to preserve a distributed national digital collection for the benefit of citizens now and in the futu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60840" y="1386000"/>
            <a:ext cx="9120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tional Digital Stewardship Alliance</a:t>
            </a:r>
            <a:endParaRPr b="0" lang="en-US" sz="40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11120" y="2201760"/>
            <a:ext cx="8244000" cy="3749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ission of the National Digital</a:t>
            </a:r>
            <a:br>
              <a:rPr sz="3200"/>
            </a:br>
            <a:r>
              <a:rPr b="0" lang="en-US" sz="3200" spc="-1" strike="noStrike">
                <a:solidFill>
                  <a:srgbClr val="000000"/>
                </a:solidFill>
                <a:latin typeface="Arial"/>
              </a:rPr>
              <a:t>Stewardship Alliance is to establish, maintain, and promote the capacity to preserve our nation's digital resources for the benefit of present and future generation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3" name=""/>
          <p:cNvSpPr/>
          <p:nvPr/>
        </p:nvSpPr>
        <p:spPr>
          <a:xfrm>
            <a:off x="60840" y="1386000"/>
            <a:ext cx="9120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tional Digital Stewardship Alliance</a:t>
            </a:r>
            <a:endParaRPr b="0" lang="en-US" sz="4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11120" y="2201760"/>
            <a:ext cx="8244000" cy="3749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u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eward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llab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lusiv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hange</a:t>
            </a:r>
            <a:endParaRPr b="0" lang="en-US" sz="3200" spc="-1" strike="noStrike">
              <a:solidFill>
                <a:srgbClr val="000000"/>
              </a:solidFill>
              <a:latin typeface="Arial"/>
            </a:endParaRPr>
          </a:p>
        </p:txBody>
      </p:sp>
      <p:sp>
        <p:nvSpPr>
          <p:cNvPr id="55" name=""/>
          <p:cNvSpPr/>
          <p:nvPr/>
        </p:nvSpPr>
        <p:spPr>
          <a:xfrm>
            <a:off x="60840" y="1386000"/>
            <a:ext cx="9120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ational Digital Stewardship Alliance</a:t>
            </a:r>
            <a:endParaRPr b="0" lang="en-US" sz="4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6" name=""/>
          <p:cNvSpPr/>
          <p:nvPr/>
        </p:nvSpPr>
        <p:spPr>
          <a:xfrm>
            <a:off x="2176560" y="1330200"/>
            <a:ext cx="3876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rPr>
              <a:t>Members</a:t>
            </a:r>
            <a:endParaRPr b="0" lang="en-US" sz="4000" spc="-1" strike="noStrike">
              <a:solidFill>
                <a:srgbClr val="000000"/>
              </a:solidFill>
              <a:latin typeface="Arial"/>
            </a:endParaRPr>
          </a:p>
        </p:txBody>
      </p:sp>
      <p:sp>
        <p:nvSpPr>
          <p:cNvPr id="57" name=""/>
          <p:cNvSpPr/>
          <p:nvPr/>
        </p:nvSpPr>
        <p:spPr>
          <a:xfrm>
            <a:off x="277920" y="2494080"/>
            <a:ext cx="8521560" cy="26542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8 member organizations plus their affiliates have joined the NDSA since it was founded in July 20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bers commit to making a sustained contribution to one or more stewardship role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bership is open to any interested organization.</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58" name=""/>
          <p:cNvSpPr/>
          <p:nvPr/>
        </p:nvSpPr>
        <p:spPr>
          <a:xfrm>
            <a:off x="858960" y="1336680"/>
            <a:ext cx="6865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dobe Garamond Pro Bold"/>
              </a:rPr>
              <a:t>Working Groups</a:t>
            </a:r>
            <a:endParaRPr b="0" lang="en-US" sz="4000" spc="-1" strike="noStrike">
              <a:solidFill>
                <a:srgbClr val="000000"/>
              </a:solidFill>
              <a:latin typeface="Arial"/>
            </a:endParaRPr>
          </a:p>
        </p:txBody>
      </p:sp>
      <p:sp>
        <p:nvSpPr>
          <p:cNvPr id="59" name=""/>
          <p:cNvSpPr/>
          <p:nvPr/>
        </p:nvSpPr>
        <p:spPr>
          <a:xfrm>
            <a:off x="379440" y="2135880"/>
            <a:ext cx="8521560" cy="302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bers commit to participating in one of the five working groups of the Allianc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Conten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frastructur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nnovation</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Outreach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Standards and Practice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0" name=""/>
          <p:cNvSpPr/>
          <p:nvPr/>
        </p:nvSpPr>
        <p:spPr>
          <a:xfrm>
            <a:off x="858960" y="1336680"/>
            <a:ext cx="6865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dobe Garamond Pro Bold"/>
              </a:rPr>
              <a:t>Working Groups</a:t>
            </a:r>
            <a:endParaRPr b="0" lang="en-US" sz="4000" spc="-1" strike="noStrike">
              <a:solidFill>
                <a:srgbClr val="000000"/>
              </a:solidFill>
              <a:latin typeface="Arial"/>
            </a:endParaRPr>
          </a:p>
        </p:txBody>
      </p:sp>
      <p:sp>
        <p:nvSpPr>
          <p:cNvPr id="61" name=""/>
          <p:cNvSpPr/>
          <p:nvPr/>
        </p:nvSpPr>
        <p:spPr>
          <a:xfrm>
            <a:off x="379440" y="2050560"/>
            <a:ext cx="8521560" cy="442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ent Working Group will focus on identifying content already preserved, investigating guidelines for the selection of significant content, discovery of at-risk digital content or collections, and matching orphan content with NDSA partners who will acquire the content, preserve it, and provide access to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pe of Wor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 or contribute to a registry of content already preserved by NDSA memb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 a clearinghouse that will enable a variety of stakeholders (content producers, archives and libraries and other potential preservationis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2" name=""/>
          <p:cNvSpPr/>
          <p:nvPr/>
        </p:nvSpPr>
        <p:spPr>
          <a:xfrm>
            <a:off x="858960" y="1336680"/>
            <a:ext cx="6865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dobe Garamond Pro Bold"/>
              </a:rPr>
              <a:t>Working Groups</a:t>
            </a:r>
            <a:endParaRPr b="0" lang="en-US" sz="4000" spc="-1" strike="noStrike">
              <a:solidFill>
                <a:srgbClr val="000000"/>
              </a:solidFill>
              <a:latin typeface="Arial"/>
            </a:endParaRPr>
          </a:p>
        </p:txBody>
      </p:sp>
      <p:sp>
        <p:nvSpPr>
          <p:cNvPr id="63" name=""/>
          <p:cNvSpPr/>
          <p:nvPr/>
        </p:nvSpPr>
        <p:spPr>
          <a:xfrm>
            <a:off x="365040" y="1790280"/>
            <a:ext cx="8521920" cy="472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rastruc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frastructure Working Group works to build a community of sharing information and best practices about the development and maintenance of tools and systems for the curation, preservation, storage, hosting, migration, or similar activities for the long term preservation of digital cont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pe of Wor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stigate, share, and recognize emerging practices for use and development and sharing of open source tools and other software that enable digital preservation as well as computer forensic tools that enable digital preserv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estigate, recognize, and document potential preservation emerging practices in the use of large-scale storage and cloud infrastructu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6d5d4"/>
            </a:gs>
          </a:gsLst>
          <a:lin ang="5400000"/>
        </a:gradFill>
      </p:bgPr>
    </p:bg>
    <p:spTree>
      <p:nvGrpSpPr>
        <p:cNvPr id="1" name=""/>
        <p:cNvGrpSpPr/>
        <p:nvPr/>
      </p:nvGrpSpPr>
      <p:grpSpPr>
        <a:xfrm>
          <a:off x="0" y="0"/>
          <a:ext cx="0" cy="0"/>
          <a:chOff x="0" y="0"/>
          <a:chExt cx="0" cy="0"/>
        </a:xfrm>
      </p:grpSpPr>
      <p:sp>
        <p:nvSpPr>
          <p:cNvPr id="64" name=""/>
          <p:cNvSpPr/>
          <p:nvPr/>
        </p:nvSpPr>
        <p:spPr>
          <a:xfrm>
            <a:off x="858960" y="1336680"/>
            <a:ext cx="6865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dobe Garamond Pro Bold"/>
              </a:rPr>
              <a:t>Working Groups</a:t>
            </a:r>
            <a:endParaRPr b="0" lang="en-US" sz="4000" spc="-1" strike="noStrike">
              <a:solidFill>
                <a:srgbClr val="000000"/>
              </a:solidFill>
              <a:latin typeface="Arial"/>
            </a:endParaRPr>
          </a:p>
        </p:txBody>
      </p:sp>
      <p:sp>
        <p:nvSpPr>
          <p:cNvPr id="65" name=""/>
          <p:cNvSpPr/>
          <p:nvPr/>
        </p:nvSpPr>
        <p:spPr>
          <a:xfrm>
            <a:off x="379440" y="2260440"/>
            <a:ext cx="8521560" cy="350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nov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ncouraging and sharing innovative methods of digital preservation practices and technologies, we plan to distribute, document, and share emerging concepts, while conducting and guiding research and development with engaged partners to find solutions where none exi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pe of Wor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velop a clear statement on the goals and purposes of data steward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gital Preservation X-Challe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5T20:41:04Z</dcterms:created>
  <dc:creator>abpo</dc:creator>
  <dc:description/>
  <dc:language>en-US</dc:language>
  <cp:lastModifiedBy>wlaz</cp:lastModifiedBy>
  <dcterms:modified xsi:type="dcterms:W3CDTF">2011-11-07T17:19:24Z</dcterms:modified>
  <cp:revision>57</cp:revision>
  <dc:subject/>
  <dc:title>Slide 1</dc:title>
</cp:coreProperties>
</file>